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9D1-0212-4BB9-B325-9474A33E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F7E-B2AA-448B-888B-E88BF6F2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B3E-208A-4803-B1D2-1733F59E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686-3094-495A-A261-284D9A35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3F7E-AAB0-46D9-85C0-07255CBE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1A39-BD2C-450F-8D86-50A5C102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1C71-B4AA-484A-BD89-7BAB6682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7D4-C2AE-4241-A588-F33E6ED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9133-DAFA-4627-9106-C3AF814C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AC3E-4DD9-48A9-B103-7EF617F9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8E4C-69A2-437E-A2E6-C590631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093-63CE-43CA-B3DA-A825BD37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F459-A994-45C8-8FF2-86EE08E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C709-2BEE-4D81-8692-D778FA4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C106-A112-48E0-AF76-44659FC0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4E3E-E6C3-4F8B-A485-2941AD04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819E-1AE2-4657-996F-F1B4A833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AA5-0C7D-4438-BD1C-584CE287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4BF-2E7D-41B6-ADF0-85CE7F3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997-4FEF-4E59-AC45-7F07859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9EE-E83E-4D57-AF14-DD99CD1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18C-9435-495A-BAC8-1724C4B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F7B-A896-41E3-9604-A0E886E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1C7-5C0C-4077-913E-6C78127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A2FC-5651-4317-9EC4-C3CA1E1A047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1D85-EB1E-49E9-8079-2A5B125E40B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 #1 and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rett Sutow, Katie Halbruner, Sam Bar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0" y="1600200"/>
          <a:ext cx="9372600" cy="3630600"/>
        </p:xfrm>
        <a:graphic>
          <a:graphicData uri="http://schemas.openxmlformats.org/drawingml/2006/table">
            <a:tbl>
              <a:tblPr/>
              <a:tblGrid>
                <a:gridCol w="1341360"/>
                <a:gridCol w="1336680"/>
                <a:gridCol w="1339920"/>
                <a:gridCol w="1336680"/>
                <a:gridCol w="1339920"/>
                <a:gridCol w="1336680"/>
                <a:gridCol w="134136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H=2.1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3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7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.9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Li=1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e=1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=2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=2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=3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O=3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=4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a=.9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Mg=1.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l=1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i=1.8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=2.1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S=2.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l=3.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ion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1 Continue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219320"/>
          <a:ext cx="7772400" cy="4225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(H+)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(OH-)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(PH)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cid, Base, Neutral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6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2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5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13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eutra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1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ids pick up hydroxide (OH-) and leave hydrogen (H+) behi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ses pick up hydrogen (H+) and leave hydroxide (OH-) behi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#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H3 is pol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2 non pol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H3 completely dissociates in H2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2 partially dissociates in H2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2:27Z</dcterms:created>
  <dc:creator>xpstudent</dc:creator>
  <dc:description/>
  <dc:language>en-US</dc:language>
  <cp:lastModifiedBy>xpstudent</cp:lastModifiedBy>
  <dcterms:modified xsi:type="dcterms:W3CDTF">2010-09-22T14:38:32Z</dcterms:modified>
  <cp:revision>2</cp:revision>
  <dc:subject/>
  <dc:title>Questions #1 and 2</dc:title>
</cp:coreProperties>
</file>